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8.xml.rels" ContentType="application/vnd.openxmlformats-package.relationships+xml"/>
  <Override PartName="/ppt/notesSlides/_rels/notesSlide49.xml.rels" ContentType="application/vnd.openxmlformats-package.relationships+xml"/>
  <Override PartName="/ppt/notesSlides/notesSlide49.xml" ContentType="application/vnd.openxmlformats-officedocument.presentationml.notesSlide+xml"/>
  <Override PartName="/ppt/notesSlides/notesSlide6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22659-B173-4B23-BDB9-2ED76FA0E8B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76721-7838-427A-865B-9483E3D38BF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31760-71D2-4E7D-9148-A9A56D0327A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3B21D-EA41-4E9F-80D4-3908E43B67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29041-85FB-44BC-A657-691D4BB9C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218C8-1018-4FC7-82A1-60BE27F9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9DCBB-B4F3-4FB0-B43B-1BB332835F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DBB11-923A-43F0-BE34-29DE1E0C4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E5B85-A8EB-4D52-AA2F-7A8E2EC45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A905A-768B-4C62-8451-43185D1CD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13EBB-8826-4C78-B385-6367F56D4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E0044-30B8-4C08-890E-CE0E2ABBA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5EC57-9065-48FD-9545-A006B6F1C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05A88-FB7E-41D8-904D-152F5D3E4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52399-FDCA-4584-8AFA-F8E7F6C02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56042-3035-4818-B95E-88CF6361BE9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app:ds:nitrogen%20balance" TargetMode="External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2205000"/>
            <a:ext cx="4572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八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消化系统功能监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02920" y="5373720"/>
            <a:ext cx="6324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华北理工大学护理与康复学院   景丽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979280" y="184464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痛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呕吐与便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709FF-D456-4323-8124-32FBB2FD79FE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8BA2A-F8BF-462D-95F8-29C7688F2E9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4e0ec"/>
                </a:solidFill>
                <a:latin typeface="Verdana"/>
              </a:rPr>
              <a:t>腹痛的类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e0ec"/>
                </a:solidFill>
                <a:latin typeface="Verdana"/>
              </a:rPr>
              <a:t>内脏性疼痛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痛感弥散，定位不准确；疼痛过程缓慢、持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e0ec"/>
                </a:solidFill>
                <a:latin typeface="Verdana"/>
              </a:rPr>
              <a:t>躯体性疼痛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能准确反映病变刺激的部位，常引起肌紧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e0ec"/>
                </a:solidFill>
                <a:latin typeface="Verdana"/>
              </a:rPr>
              <a:t>牵涉性疼痛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某个内脏病变所产生的痛觉信号，被定位于远离该内脏的身体其他部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F891-2561-4406-9911-2FD5D6420EEA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20031-CE42-4EDC-96C5-11894F13E9F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0f0"/>
                </a:solidFill>
                <a:latin typeface="Verdana"/>
              </a:rPr>
              <a:t>腹痛的观察要点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7972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疼痛的部位、起始情况、程度、性质、时间 、与饮食的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持续性、渐进性或是间歇发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症状加重和缓解的因素及规律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伴随症状：发热、呕吐、排便的改变、腹胀、腹膜刺激征、皮肤与巩膜黄染。休克、神经精神症状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58903-E482-4FE6-B88C-D0D78177A679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476BC-AC62-4AA0-8FF1-49630A8295D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</a:rPr>
              <a:t>病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功能紊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查不到形态学的改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感染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细菌感染或化学刺激引起的病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出血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主要是血管破裂引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缺血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供血失常造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梗阻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空腔脏器及管道系统的通过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穿孔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空腔脏器穿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9BB02-33C0-4AF6-976F-C216D348A4F0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D85D2-8E65-43F6-A633-71A7839451C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穿孔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胃十二指肠穿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突发性上腹部刀割样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舟状腹，迅速出现腹膜刺激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移动性浊音、有气腹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鸣音消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诊断性腹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C0906-BB27-48BA-BEBD-ECF8F3B5C251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9B412-F663-43CD-B8A6-ED2BA59B6FC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炎症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急性胆囊炎、胆管炎、胰腺炎、阑尾炎、胃肠炎、盆腔炎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有体温升高，血白细胞及中性粒细胞增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痛由轻到重，呈持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有固定压痛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可伴有腹膜刺激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FB019-C8B6-49C1-ACAF-37ECD9FA4292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37E94-3760-41E8-A8F2-F769901617D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出血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肝脾破裂、腹主动脉瘤破裂、溃疡出血、食管胃底静脉曲张破裂、异位妊娠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多有外伤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以失血性表现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可有不同程度的腹膜刺激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移动性浊音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&gt;5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积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腔穿刺：不凝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35BA2-5296-41C9-8913-6A086D73D295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74C9B-1E5F-42F4-913F-1124FCFEB85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000"/>
                </a:solidFill>
                <a:latin typeface="Verdana"/>
              </a:rPr>
              <a:t>失血性周围循环衰竭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心率增快、血压降低、脉压减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晕厥、口干、烦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尿量减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冷汗、面色苍白、皮肤湿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4DF6E-7E4A-42AC-A0CF-58317B2E1407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0FBEE-F0C8-4F21-9FF7-74A50F8122C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爆炸形 2 5"/>
          <p:cNvSpPr/>
          <p:nvPr/>
        </p:nvSpPr>
        <p:spPr>
          <a:xfrm rot="20559000">
            <a:off x="3624120" y="4916160"/>
            <a:ext cx="5472360" cy="1152360"/>
          </a:xfrm>
          <a:prstGeom prst="irregularSeal2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5c8c"/>
                </a:solidFill>
                <a:latin typeface="Verdana"/>
              </a:rPr>
              <a:t>液体好难打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梗阻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肠梗阻、肠套叠、结石、胆道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起病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阵发性绞痛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初期多无腹膜刺激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伴随症状：呕吐，大便，黄疸，血尿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B2BD9-F3DF-4F5C-BD34-08BFE4F6F287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38847-0BB5-4DBF-A17F-53303A09529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缺血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肠扭转、肠系膜动脉栓塞、绞窄性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病情发展迅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呈持续性腹痛阵发性加剧或持续剧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易出现腹膜刺激征或休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818A2-28E7-4AAC-9E03-AE8A1D0D91D4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4850A-4A1C-4292-96AF-242034384B0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1692360" y="2708280"/>
            <a:ext cx="688680" cy="593640"/>
            <a:chOff x="1692360" y="2708280"/>
            <a:chExt cx="688680" cy="593640"/>
          </a:xfrm>
        </p:grpSpPr>
        <p:sp>
          <p:nvSpPr>
            <p:cNvPr id="115" name="AutoShape 5"/>
            <p:cNvSpPr/>
            <p:nvPr/>
          </p:nvSpPr>
          <p:spPr>
            <a:xfrm>
              <a:off x="1697760" y="271836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6"/>
            <p:cNvSpPr/>
            <p:nvPr/>
          </p:nvSpPr>
          <p:spPr>
            <a:xfrm>
              <a:off x="1692360" y="270828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7"/>
            <p:cNvSpPr/>
            <p:nvPr/>
          </p:nvSpPr>
          <p:spPr>
            <a:xfrm>
              <a:off x="1732320" y="2743200"/>
              <a:ext cx="600480" cy="513360"/>
            </a:xfrm>
            <a:prstGeom prst="hexagon">
              <a:avLst>
                <a:gd name="adj" fmla="val 2924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8"/>
          <p:cNvSpPr/>
          <p:nvPr/>
        </p:nvSpPr>
        <p:spPr>
          <a:xfrm>
            <a:off x="1864080" y="27655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9"/>
          <p:cNvSpPr/>
          <p:nvPr/>
        </p:nvSpPr>
        <p:spPr>
          <a:xfrm>
            <a:off x="1692360" y="347040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1827360" y="35528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1" name="Group 11"/>
          <p:cNvGrpSpPr/>
          <p:nvPr/>
        </p:nvGrpSpPr>
        <p:grpSpPr>
          <a:xfrm>
            <a:off x="1676520" y="4238640"/>
            <a:ext cx="686880" cy="593640"/>
            <a:chOff x="1676520" y="4238640"/>
            <a:chExt cx="686880" cy="593640"/>
          </a:xfrm>
        </p:grpSpPr>
        <p:sp>
          <p:nvSpPr>
            <p:cNvPr id="122" name="AutoShape 12"/>
            <p:cNvSpPr/>
            <p:nvPr/>
          </p:nvSpPr>
          <p:spPr>
            <a:xfrm>
              <a:off x="1681920" y="42487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AutoShape 13"/>
            <p:cNvSpPr/>
            <p:nvPr/>
          </p:nvSpPr>
          <p:spPr>
            <a:xfrm>
              <a:off x="1676520" y="42386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4"/>
            <p:cNvSpPr/>
            <p:nvPr/>
          </p:nvSpPr>
          <p:spPr>
            <a:xfrm>
              <a:off x="1716480" y="427356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5" name="Text Box 15"/>
          <p:cNvSpPr/>
          <p:nvPr/>
        </p:nvSpPr>
        <p:spPr>
          <a:xfrm>
            <a:off x="1844640" y="431496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Line 18"/>
          <p:cNvSpPr/>
          <p:nvPr/>
        </p:nvSpPr>
        <p:spPr>
          <a:xfrm>
            <a:off x="2428920" y="32702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19"/>
          <p:cNvSpPr/>
          <p:nvPr/>
        </p:nvSpPr>
        <p:spPr>
          <a:xfrm>
            <a:off x="2428920" y="40622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20"/>
          <p:cNvSpPr/>
          <p:nvPr/>
        </p:nvSpPr>
        <p:spPr>
          <a:xfrm>
            <a:off x="2428920" y="48546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矩形 21"/>
          <p:cNvSpPr/>
          <p:nvPr/>
        </p:nvSpPr>
        <p:spPr>
          <a:xfrm>
            <a:off x="2428920" y="2406600"/>
            <a:ext cx="521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第一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消化系统应用生理（自学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矩形 22"/>
          <p:cNvSpPr/>
          <p:nvPr/>
        </p:nvSpPr>
        <p:spPr>
          <a:xfrm>
            <a:off x="2500200" y="3559320"/>
            <a:ext cx="370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第二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临床监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矩形 23"/>
          <p:cNvSpPr/>
          <p:nvPr/>
        </p:nvSpPr>
        <p:spPr>
          <a:xfrm>
            <a:off x="2484360" y="4076640"/>
            <a:ext cx="57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第三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重症胰腺炎患者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</a:rPr>
              <a:t>急性腹痛的判断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外科性急腹症：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</a:rPr>
              <a:t>先腹痛，后有发热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等伴随症状。腹痛或压痛部位比较固定，程度重。可伴腹膜刺激征</a:t>
            </a: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内科性急腹症：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</a:rPr>
              <a:t>先热后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，腹痛多无固定部位，程度轻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胃肠炎、心肌梗死、腹型过敏性紫癜、大叶性肺炎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93235-3140-43E7-8BC0-AB84028BE38C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CECB7-ECC6-4E92-9B26-8A0A3811FFC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979280" y="184464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痛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呕吐与便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10E06-E6E1-4CBA-A89B-554291678C92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99F4A-8871-42A2-8DAA-C8EEB449E04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</a:rPr>
              <a:t>腹胀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771640" y="1628640"/>
            <a:ext cx="74678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主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膨隆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测腹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压的测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A9D11-B378-43EE-A20C-EE8474A127D0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A853E-B7F5-4AE7-9993-10DFBEFA4A4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舒体"/>
                <a:ea typeface="方正舒体"/>
              </a:rPr>
              <a:t>腹腔内压测定：经导尿管膀胱测压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平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以耻骨联合作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排空膀胱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通过导尿管向膀胱内滴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生理盐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测得平衡时水柱的高度即为腹腔内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4407A-CE08-4848-9E43-0575A92C61F5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BEE99-21C6-4CEF-B6B1-A01D1AB7189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舒体"/>
                <a:ea typeface="方正舒体"/>
              </a:rPr>
              <a:t>腹腔间室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般来讲，腹腔内压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intra—abdominal pres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I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增加到</a:t>
            </a:r>
            <a:r>
              <a:rPr b="1" lang="en-US" sz="2800" spc="-1" strike="noStrike">
                <a:solidFill>
                  <a:srgbClr val="8a5c8c"/>
                </a:solidFill>
                <a:latin typeface="Verdana"/>
              </a:rPr>
              <a:t>&gt;25 cmH</a:t>
            </a:r>
            <a:r>
              <a:rPr b="1" lang="en-US" sz="2800" spc="-1" strike="noStrike" baseline="-25000">
                <a:solidFill>
                  <a:srgbClr val="8a5c8c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8a5c8c"/>
                </a:solidFill>
                <a:latin typeface="Verdana"/>
              </a:rPr>
              <a:t>O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时，就会引发脏器功能障碍，出现腹腔间隔室综合征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bdominal compartment syndrom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C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C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指继发于腹内压急剧升高的脏器功能不全。主要表现为恶心、呕吐、腹胀、呼吸困难、肠鸣音减弱或消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A943E-A737-41B1-8334-213B8A9FEDA9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D92D3-4F68-4E8E-A331-378E134B801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979280" y="184464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痛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呕吐与便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1CA38-2FC2-48FA-AB69-9B36CCD49E59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774EF-0F36-44C2-9CB5-3068CF9E247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  <a:ea typeface="宋体"/>
              </a:rPr>
              <a:t>呕吐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与记录呕吐次数与量、呕吐物性质、气味、颜色、有无隔宿食物。必要时留取标本送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内积血量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25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黑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3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可引起呕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496EF-928F-494D-B802-E59802FEC41C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C683-5CF6-454E-BD8C-AB80D213DED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留置胃管者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引流液的量与性状、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管是否固定妥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通畅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肠减压负压是否有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0E592-6884-447D-BA4F-3A400BFEA6B5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DA5E7-F5D4-4F13-AC7D-4B34752D0D1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云形标注 5"/>
          <p:cNvSpPr/>
          <p:nvPr/>
        </p:nvSpPr>
        <p:spPr>
          <a:xfrm>
            <a:off x="2448000" y="5057640"/>
            <a:ext cx="6696000" cy="1800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5c8c"/>
                </a:solidFill>
                <a:latin typeface="Verdana"/>
              </a:rPr>
              <a:t>“</a:t>
            </a:r>
            <a:r>
              <a:rPr b="0" lang="zh-CN" sz="3200" spc="-1" strike="noStrike">
                <a:solidFill>
                  <a:srgbClr val="8a5c8c"/>
                </a:solidFill>
                <a:latin typeface="方正舒体"/>
                <a:ea typeface="方正舒体"/>
              </a:rPr>
              <a:t>引流出黄绿色胃液”？吐啦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  <a:ea typeface="宋体"/>
              </a:rPr>
              <a:t>便血的观察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便的次数与量、粪便性质、颜色、气味、有无里急后重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大便隐血实验阳性提示每日出血量大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5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1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出现黑便表明出血量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5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7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上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CB8B9-8DAE-42E6-A044-417B44C58911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B1334-BFAA-4B4F-A2B4-08F0D3D9C01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监测出血征象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记录呕血、黑便和便血的频度、颜色、性质、次数和总量，定期复查红细胞计数、血红蛋白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Hc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与血尿素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生命体征和循环状况：监测意识状态、脉搏和血压、肢体温度、皮肤和甲床色泽、周围静脉特别是颈静脉充盈情况、尿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B8BBA-ED1C-4B54-BFEE-9C87955EBA6A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73F15-69DE-423F-813A-B870AF4E719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196640"/>
            <a:ext cx="72072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描述消化系统常见临床症状、体征及评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描述急性重症胰腺炎疾病的临床表现和分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解释肝功能监测内容及临床意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解释营养状态评估的方法和意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比较不同营养支持方式的实施方法及适用范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描述急性重症胰腺炎的诊断和治疗要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评估消化系统疾病患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评估重症胰腺炎患者并为其制订护理计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39A1C-4912-46E1-BE43-491E9BC5529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活动性出血的判断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9640" y="898560"/>
            <a:ext cx="7467840" cy="59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呕血或黑便次数增多、颜色变鲜红。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胃管抽出物有较多鲜血；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经快速输液输血，周围循环衰竭的表现未见明显改善，或虽暂时好转而又恶化，中心静脉压仍有波动，稍稳定又再下降；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红细胞计数、血红蛋白测定和</a:t>
            </a:r>
            <a:r>
              <a:rPr b="1" lang="en-US" sz="2700" spc="-1" strike="noStrike">
                <a:solidFill>
                  <a:srgbClr val="8ac8de"/>
                </a:solidFill>
                <a:latin typeface="Verdana"/>
              </a:rPr>
              <a:t>Hct</a:t>
            </a: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继续下降，网织红细胞计数持续增高；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补液和尿量足够的情况下，血尿素氮持续或再次增高；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4B0C2-26E0-4318-9334-A8A8847E18C1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9F5B9-895A-4362-A4FE-4BDEBE8601A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0f0"/>
                </a:solidFill>
                <a:latin typeface="Verdana"/>
              </a:rPr>
              <a:t>消化系统常见护理问题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疼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与腹腔内器官炎症、出血、损伤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体液不足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腹腔内液体渗出、呕吐或禁食等所致的液体丢失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营养失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与减少进食量及异常消化功能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恐惧</a:t>
            </a:r>
            <a:r>
              <a:rPr b="1" lang="en-US" sz="2800" spc="-1" strike="noStrike">
                <a:solidFill>
                  <a:srgbClr val="ffc000"/>
                </a:solidFill>
                <a:latin typeface="Verdana"/>
              </a:rPr>
              <a:t>/</a:t>
            </a: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焦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与腹痛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7EDF5-A3CC-4D87-9FA4-0B139070DBC8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DD2CA-0D51-49E5-A12E-60133D874DB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0f0"/>
                </a:solidFill>
                <a:latin typeface="Verdana"/>
              </a:rPr>
              <a:t>急性腹痛未明确诊断前：</a:t>
            </a:r>
            <a:r>
              <a:rPr b="1" lang="zh-CN" sz="3200" spc="-1" strike="noStrike">
                <a:solidFill>
                  <a:srgbClr val="ffc000"/>
                </a:solidFill>
                <a:latin typeface="Verdana"/>
              </a:rPr>
              <a:t>五禁四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11280" y="1628640"/>
            <a:ext cx="4039920" cy="39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食、水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用止痛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用热敷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灌肠及使用泄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止活动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140000" y="1699920"/>
            <a:ext cx="42145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抗休克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抗感染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抗水、电解质和酸碱失衡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抗腹胀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5585C-7E53-4E6B-9A6F-B09A6842861F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灯片编号占位符 7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A976F-8FC5-4F5A-AD29-1D6B200358F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000"/>
                </a:solidFill>
                <a:latin typeface="Verdana"/>
                <a:ea typeface="宋体"/>
              </a:rPr>
              <a:t>减轻疼痛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非休克患者取半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食和胃肠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痉和镇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EB080-C0F3-4E71-99A2-F9A8579A0E96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86334-1A89-4DDF-8B8E-DB1896B421D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二、肝功能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精神状态及意识状态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黄疸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血清酶学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凝血功能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血清蛋白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血氨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标题 1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血清蛋白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总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正常值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白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5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球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白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球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意义：慢性肝炎、肝硬化时常出现白蛋白减少而球蛋白增加，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/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比例倒置。白蛋白主要在肝中制造，一般白蛋白量越多，人体越健康，影响机体的胶体渗透压水平。球蛋白大部分在肝细胞外生成，球蛋白与人体的免疫力有关系，球蛋白要保持一定的量，球蛋白值偏高说明体内存在免疫系统的亢进，偏低说明免疫力不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78920" y="1125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胆红素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总胆红素的正常值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7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7.1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m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，直接胆红素的正常值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7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m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，间接胆红素的正常值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.7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意义：主要用于诊断肝疾病和胆道梗阻。当肝发生炎症、坏死、中毒等损害均可以引起黄疸，胆道疾病及溶血性疾病也可以引起黄疸。以直接胆红素升高为主常见于原发性胆汁型肝硬化、胆道梗阻等。以间接胆红素升高为主常见于溶血性疾病、新生儿黄疸或者输血错误等。肝炎与肝硬化患者的直接胆红素与间接胆红素都可以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二）胆红素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特别说明：一般来说小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的黄疸，视诊不易察出，称为隐性黄疸；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7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轻度黄疸；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7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中度黄疸；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高度黄疸。完全阻塞性黄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1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不完全阻塞者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7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65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肝细胞性黄疸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溶血性黄疸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5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600"/>
            <a:ext cx="8610480" cy="4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血清酶学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7" name="Picture 3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856908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四）血氨的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血氨正常值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μmol/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临床意义：血氨值偏高可能影响肝病患者肝昏迷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消化系统的主要生理功能是摄取和消化食物、吸收营养和排泄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肝性脑病为例讲授重症消化患者护理评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点内容之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重症胰腺炎患者重症监护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点内容之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一）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通过营养素的调理作用，调节免疫功能，增强机体抗病能力，从而影响疾病的发展与转归，这是实现危重症患者营养支持的总目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二）营养状态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营养评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通过人体测量、实验室检查及综合营养评定方法等手段，判定人体营养状况，确定营养不良的程度及类型，并监测营养支持疗效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皮褶厚度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可推断全身脂肪含量、判断皮下脂肪发育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测定部位主要有上臂肱三头肌、肩胛下角部及腹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临床上常用肱三头肌皮褶厚度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SF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测定：在右上臂后面肩峰与鹰嘴连线的中点，夹取与上肢长轴平行的皮褶，纵向测量。正常参考值男性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2.5m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女性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6.5m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实测值在正常值的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以上为正常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体脂轻度亏损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中度亏损，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重度亏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上臂肌围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M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间接反映机体内蛋白质储存情况，与血清白蛋白水平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M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=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上臂围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4×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肱三头肌皮褶厚度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上臂肌围参考值男性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4.8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女性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1.0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实测值在参考值的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以上为正常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轻度营养不良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中度，小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重度。测量上臂围时，被测者上臂自然下垂，取上臂中点，用软尺测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氮平衡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血清白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rum album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L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持续低白蛋白血症被认为是判定营养不良的可靠指标。正常参考范围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5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若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5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营养不良，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则为重度营养不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转铁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ransferr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RF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评定蛋白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热量营养不良时更为敏感。正常参考范围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.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5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属于中度营养不良，小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严重营养不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氮平衡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肌酐身高指数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HI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氮平衡（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Verdana"/>
                <a:hlinkClick r:id="rId1"/>
              </a:rPr>
              <a:t>nitrogen balanc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N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评定机体蛋白质营养状况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最可靠和最常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的指标。一般食物的蛋白质中氮的平均含量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。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NB =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蛋白质摄入量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/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6.2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[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尿中尿素氮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/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/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]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其中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/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为人体每天通过呼吸道、粪便、汗液及尿中其他形式排出的氮。若氮摄入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=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氮排出量为氮平衡，氮摄入量＞氮排出量为正氮平衡，氮摄入量＜氮排出量为负氮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免疫功能评定：危重症患者中蛋白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热量营养不良者，常伴有细胞免疫功能减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总淋巴细胞计数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L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是目前评定细胞免疫功能的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简易方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L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×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</a:rPr>
              <a:t>8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者为正常，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2-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×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</a:rPr>
              <a:t>8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者为轻度营养不良，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-1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×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</a:rPr>
              <a:t>8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者为中度营养不良，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×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</a:rPr>
              <a:t>8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者为重度营养不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皮肤迟发型超敏反应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D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综合营养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2" name="Picture 2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778500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危重症患者的营养支持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重症患者常合并代谢紊乱与营养不良，需要给予营养支持；且应尽早开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计算机体能量消耗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1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）基础热量消耗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basal energy expenditure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，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BEE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男性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ca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=66.4+13.7×W+5.0×H-6.8×A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女性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ca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=66.5+9.6×W+1.8×H-4.7×A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危重症患者的营养支持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静息能量消耗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R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：餐后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h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以上，合适温度下，安静平卧或静坐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min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以上所测得的人体能量消耗。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R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较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高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％左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男性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R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ca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=5.48×H +11.51×W-3.47×A-189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女性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R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ca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=2.95×H +8.73×W-1.94×A+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5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危重症患者的营养支持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计算总能量需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公式计算法：在活动、应激和发热时，危重症患者，公式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TEE=BEE×AF×IF×T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计算得出，其中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A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活动系数，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I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应激系数，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T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体温系数，以正常体温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7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的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T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，体温每增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，系数增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0.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活动系数和应激系数见教材（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-4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和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-5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26920" y="1699920"/>
            <a:ext cx="7772400" cy="25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第二节   临床监护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简易估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总能量可以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 kcal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计算，但不超过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5kcal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重症患者急性应激期营养支持应掌握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“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允许性低热卡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”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原则，能量补充不宜超过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5kcal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在应激与代谢状态稳定后能量供给需要适当的增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5kcal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，否则将难以纠正患者的低蛋白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确定各种营养物质的供给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非蛋白供能物质：以碳水化合物、脂肪共同供能为首选。碳水化合物与脂肪热量比可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碳水化合物的供给量不宜超过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00g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，而脂肪乳剂所提供的脂肪量，通常每日不宜超过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5g/k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蛋白质：正常情况下，足够的蛋白质供给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0g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。危重症患者热氮比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0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50kca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在严重应激下，尤其是对重症肺炎，热氮比应适当降至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30kca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24000" y="11970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确定各种营养物质的供给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水及电解质：可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0ml/k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估计液体的需要量，再加上丢失量，即为液体补充量；体温升高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以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7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基础体温）时，需增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00m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的入量。正常成年人电解质日需要量分别为：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00-120mmo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即氯化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5.8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7.0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，钾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20mmo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即氯化钾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6.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9.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，钙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-10mmo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即葡萄糖酸钙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6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.5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，镁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5mmo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即硫酸镁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7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微量营养素：包括水溶性维生素、脂溶性维生素和必需微量元素。目前药品市场上复合性多种维生素和微量元素制剂较多，使用方便、安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确定营养支持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外营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parenteral nutri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P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内营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enteral nutri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E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两种方法共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外营养输注途径与方式，周围静脉或中心静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肠外、肠内营养支持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途径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液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输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并发症及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468360" y="2204640"/>
            <a:ext cx="827568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第三节  急性重症胰腺炎患者的护理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胰腺炎伴有脏器功能障碍，或出现坏死、脓肿或假性囊肿等局部并发症者，或两者兼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腹部体征有上腹部明显的压痛、反跳痛、肌紧张、腹胀、肠鸣音减弱或消失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包块，偶见腰肋部皮下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淤斑征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Grey-Tumer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征）和脐周皮下淤斑征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ullen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征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可并发一个或多个脏器功能障碍，或严重代谢功能紊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增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诊断胰腺坏死的最有效方法，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超及腹腔穿刺对诊断有一定帮助。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APACH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评分≥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分。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althazar CT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分级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系统≥Ⅱ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重症胰腺炎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的诊断标准为：有急性胰腺炎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的临床表现和生化改变，且具备下列条件之一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局部并发症（胰腺坏死、脓肿或假性囊肿等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个或多个器官衰竭，可伴有严重的代谢功能紊乱，包括低钙血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③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Ranson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评分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④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PACH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评分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⑤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Balthazar CT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分级≥Ⅱ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患者，男性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主诉：上腹部疼痛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d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加重伴恶心呕吐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h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现病史：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d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前患者因朋友聚会，共饮白酒约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50m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于夜间出现上腹部疼痛，持续性伴阵发性加剧，伴后腰部放散痛，自服止痛药效果不明显，屈膝侧卧位疼痛略缓解。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h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前腹痛加重，伴恶心、呕吐，呕吐物为胃内容物，并有发热，体温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7.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无寒战。于我院门诊急检尿淀粉酶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000IU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血淀粉酶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00IU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为求进一步诊治入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既往史：否认糖尿病、高血压病史及家族史，否认肝炎及结核病史，无药物过敏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体格检查：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T 36.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P 8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R 16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BP 120/80mmHg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神清语明，皮肤黏膜未见异常，浅表淋巴结未触及肿大。双肺呼吸音清晰，未闻及干湿音，心率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分，节律规整，心脏各瓣膜听诊区未闻及病理性杂音。腹平软，左上腹压痛，无反跳痛及肌紧张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Murphy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征阴性，肝肋下未触及。双下肢无水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辅助检查血常规：白细胞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8ac8de"/>
                </a:solidFill>
                <a:latin typeface="宋体"/>
                <a:ea typeface="宋体"/>
              </a:rPr>
              <a:t>9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NE%78%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红细胞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2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8ac8de"/>
                </a:solidFill>
                <a:latin typeface="宋体"/>
                <a:ea typeface="宋体"/>
              </a:rPr>
              <a:t>12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血小板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20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8ac8de"/>
                </a:solidFill>
                <a:latin typeface="宋体"/>
                <a:ea typeface="宋体"/>
              </a:rPr>
              <a:t>9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钾离子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1mmol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钙离子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0mmol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血糖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.1mmol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请问应如何对该患者进行评估与护理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66FE8-90E0-4769-A46D-407A024D725D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02DB8-1E40-4FBD-8D1B-7148D18AD31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3" name="组合 20"/>
          <p:cNvGrpSpPr/>
          <p:nvPr/>
        </p:nvGrpSpPr>
        <p:grpSpPr>
          <a:xfrm>
            <a:off x="539640" y="1413000"/>
            <a:ext cx="8064720" cy="4319640"/>
            <a:chOff x="539640" y="1413000"/>
            <a:chExt cx="8064720" cy="4319640"/>
          </a:xfrm>
        </p:grpSpPr>
        <p:pic>
          <p:nvPicPr>
            <p:cNvPr id="144" name="矩形 9" descr=""/>
            <p:cNvPicPr/>
            <p:nvPr/>
          </p:nvPicPr>
          <p:blipFill>
            <a:blip r:embed="rId1"/>
            <a:stretch/>
          </p:blipFill>
          <p:spPr>
            <a:xfrm>
              <a:off x="539640" y="1413000"/>
              <a:ext cx="1831320" cy="43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矩形 10"/>
            <p:cNvSpPr/>
            <p:nvPr/>
          </p:nvSpPr>
          <p:spPr>
            <a:xfrm>
              <a:off x="3142440" y="1429560"/>
              <a:ext cx="5461920" cy="1000440"/>
            </a:xfrm>
            <a:prstGeom prst="rect">
              <a:avLst/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9669b"/>
                  </a:solidFill>
                  <a:latin typeface="Verdana"/>
                </a:rPr>
                <a:t>患者及家属：</a:t>
              </a:r>
              <a:r>
                <a:rPr b="0" lang="zh-CN" sz="3200" spc="-1" strike="noStrike">
                  <a:solidFill>
                    <a:srgbClr val="ff0000"/>
                  </a:solidFill>
                  <a:latin typeface="Verdana"/>
                </a:rPr>
                <a:t>病史、</a:t>
              </a:r>
              <a:r>
                <a:rPr b="0" lang="zh-CN" sz="3200" spc="-1" strike="noStrike">
                  <a:solidFill>
                    <a:srgbClr val="99669b"/>
                  </a:solidFill>
                  <a:latin typeface="Verdana"/>
                </a:rPr>
                <a:t>心理社会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矩形 11"/>
            <p:cNvSpPr/>
            <p:nvPr/>
          </p:nvSpPr>
          <p:spPr>
            <a:xfrm>
              <a:off x="3142440" y="3002040"/>
              <a:ext cx="5461920" cy="1071360"/>
            </a:xfrm>
            <a:prstGeom prst="rect">
              <a:avLst/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9669b"/>
                  </a:solidFill>
                  <a:latin typeface="Verdana"/>
                </a:rPr>
                <a:t>患者：主诉、</a:t>
              </a:r>
              <a:r>
                <a:rPr b="0" lang="zh-CN" sz="3200" spc="-1" strike="noStrike">
                  <a:solidFill>
                    <a:srgbClr val="ff0000"/>
                  </a:solidFill>
                  <a:latin typeface="Verdana"/>
                </a:rPr>
                <a:t>体格检查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矩形 12"/>
            <p:cNvSpPr/>
            <p:nvPr/>
          </p:nvSpPr>
          <p:spPr>
            <a:xfrm>
              <a:off x="3142440" y="4716360"/>
              <a:ext cx="5461920" cy="1000440"/>
            </a:xfrm>
            <a:prstGeom prst="rect">
              <a:avLst/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9669b"/>
                  </a:solidFill>
                  <a:latin typeface="Verdana"/>
                </a:rPr>
                <a:t>临床症状、体征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左箭头 13"/>
            <p:cNvSpPr/>
            <p:nvPr/>
          </p:nvSpPr>
          <p:spPr>
            <a:xfrm>
              <a:off x="2423160" y="1787400"/>
              <a:ext cx="648000" cy="285120"/>
            </a:xfrm>
            <a:prstGeom prst="leftArrow">
              <a:avLst>
                <a:gd name="adj1" fmla="val 50000"/>
                <a:gd name="adj2" fmla="val 50294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左箭头 16"/>
            <p:cNvSpPr/>
            <p:nvPr/>
          </p:nvSpPr>
          <p:spPr>
            <a:xfrm>
              <a:off x="2423160" y="3430800"/>
              <a:ext cx="648000" cy="285120"/>
            </a:xfrm>
            <a:prstGeom prst="leftArrow">
              <a:avLst>
                <a:gd name="adj1" fmla="val 50000"/>
                <a:gd name="adj2" fmla="val 50294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左箭头 17"/>
            <p:cNvSpPr/>
            <p:nvPr/>
          </p:nvSpPr>
          <p:spPr>
            <a:xfrm>
              <a:off x="2423160" y="5073840"/>
              <a:ext cx="648000" cy="285120"/>
            </a:xfrm>
            <a:prstGeom prst="leftArrow">
              <a:avLst>
                <a:gd name="adj1" fmla="val 50000"/>
                <a:gd name="adj2" fmla="val 50294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一）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腹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恶心、呕吐及腹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发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水、电解质及酸碱平衡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低血压和休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rey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urne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征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ulle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急性液体积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急性胰腺假性囊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胰腺脓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胰腺及胰周组织坏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急性呼吸窘迫综合征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RD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其他：急性肾衰竭、心律失常或心力衰竭、肝功能衰竭、消化道出血、败血症、胰性脑病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I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实验室检查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白细胞计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血清脂肪酶测定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血清脂肪酶常在起病后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72h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开始上升，持续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天，对病后就诊较晚的急性胰腺炎患者有诊断价值，且特异性也较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淀粉酶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注：诊断中应注意淀粉酶的高低不一定反映病情轻重，出血坏死型胰腺炎淀粉酶值可正常或低于正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反应蛋白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RP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其他生化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影像学检查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腹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线：急性期可见“哨兵袢”和“结肠切割征”，是胰腺炎的间接指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腹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超：可以观察胰腺形态及有无胆道结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腹部增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：是近年来被广泛接受的敏感确诊急性胰腺炎的方法。在口服或静脉注射增强造影剂后，可以得到清晰的胰腺图像，是诊断胰腺坏死的金标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四）心理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五）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般采取非手术治疗以维护器官功能，感染性坏死采用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病因治疗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胆源性：有胆道梗阻者及时解除梗阻。若无胆道梗阻者先行非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高血脂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酒精性：禁食和胃肠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抑制胰酶分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①禁食和胃肠减压；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早期静脉滴注抑肽酶、加贝酯；③应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H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受体拮抗剂或质子泵抑制剂；④应用生长抑素及其衍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抗生素应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选用对肠道异位细菌敏感且对胰腺有较好渗透性的抗生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纠正水、电解质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营养支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患者早期条件允许即给予营养支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并发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中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腹腔灌洗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适用于出血坏死型胰腺炎伴大量腹腔渗液者，可清除胰腺渗出物和释放的胰酶等有毒物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手术治疗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出血坏死性胰腺炎经内科治疗无效，或胰腺炎并发脓肿、假性囊肿、弥漫性腹膜炎、肠穿孔、肠梗阻及肠麻痹坏死时，需行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方正舒体"/>
                <a:ea typeface="方正舒体"/>
              </a:rPr>
              <a:t>护理诊断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疼痛   与胰腺及其周围组织炎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液不足  与体液外渗及血管扩张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温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失调  低于机体需要量，与禁食、呕吐、胃肠减压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组织灌注不足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胰腺出血坏死，腹腔、腹膜后大量渗液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恐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腹痛剧烈及病情进展急骤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潜在并发症：休克、急性肾衰竭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RD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胰性脑病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I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心力衰竭、感染和出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D4044-4428-483A-828D-E4F26457A558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06D63-D56B-45DD-A74B-842E99B8A8B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1.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一般护理措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食、胃肠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遵医嘱给予镇痛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和迅速纠正休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密监测患者的体温变化，必要时给予物理降温或药物降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基础护理：保持患者清洁，协助调整体位，及时清除排泄物及渗出液，做好患者的皮肤保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2EDF3-016E-4CA4-BF0C-82EC91CE2712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97ED8-3E51-44CB-9E5D-1F6293DE86D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病史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日常生活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患病的起始情况、主要症状及其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既往检查、治疗经过及效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既往疾病史及药物史、心理社会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B82F-D586-492B-82F6-2E96EA9D64CB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B4F96-264C-4E81-AE41-3B1975D1AF1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2.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急性反应期的监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基本生命体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神智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H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PO</a:t>
            </a: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循环监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V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尿量、皮肤黏膜、肢端循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呼吸监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呼吸频率、状态、肺部听诊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iO</a:t>
            </a: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PO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血气分析、胸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消化监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营养状况、黄疸、腹部体征（外观、腹膜刺激征、腹水、腹压）、胃肠功能（肠鸣、胃液、大便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其他器官功能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肾功、肝功、血糖、血尿淀粉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辅助检查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线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超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其他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6796-4080-4F71-8392-AF9779B65B9B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6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D07F5-C24C-46FF-A095-93581A7AB31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3.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血糖监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密监测血糖及与血糖改变相关的症状和体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若在排除休克的情况下患者出现出冷汗、旋晕、意识水平下降等，应考虑低血糖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糖浓度居高不下或波动太大，最好能每小时监测血糖，根据血糖水平调整外源性胰岛素补充的量及速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CE26B-96FA-4E7B-A267-B28BA76B52BE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0E383-F8E9-4984-ADB4-E280252834C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4.1 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感染的控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0" y="12679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应安置于一个环境清洁、相对隔离的单间，保持室内合适的温度及湿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监测患者的体温，高热患者应每小时监测体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监测气道分泌物、尿液、腹腔引流液的性状、气味、颜色及细菌学检查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持各种引流管道通畅，做好各种管道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持引流口及伤口无菌，敷料清洁、干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BB7B0-DBD9-43A6-9865-6AC977534819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B3324-67BD-4C2C-9296-280BF2F67C0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4.2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感染的控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42920" y="1071360"/>
            <a:ext cx="925344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进行各种侵入性操作时应严格遵循无菌原则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做好人工气道护理，合理进行人工气道湿化及胸部理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积极治疗各种感染病灶，包括褥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改善患者营养，增强机体抵抗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药物敏感试验合理使用抗生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B0FC9-79C7-4748-A089-56F041C416BB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D3069-6B10-431C-878A-804BD4E176E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5.1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管道护理</a:t>
            </a: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:SAP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常见管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管、鼻肠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尿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气管插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中心静脉置管、血透用股静脉置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腔引流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肛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092FC-8A55-4281-86A7-FC3893D2FD26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EFF12-2E5D-4BFE-BD66-FC3D3956DF4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明确标记 ：名称、更换日期，记录长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妥善固定，尤其翻身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保持引流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保持密闭，严格无菌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局部皮肤的护理，及时更换敷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准确记录引流物的量及性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4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FA602-B026-4DAD-9FA7-E9655292ADEB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6919-3BDB-4724-B76B-C6CD72BC876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5.2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管道护理</a:t>
            </a: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:SAP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常见管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防移位和滑脱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记录导管插入深度，在鼻翼和同侧面颊处用宽胶布双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防堵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每次灌注营养液前后均用温水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冲洗管道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持续输注者应当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小时冲洗管道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未使用者至少每天冲洗管道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8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47880-1516-432E-9918-F2FFE150B65F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9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0674B-9EDD-4819-8798-B9AEE766B11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0" name="标题 1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5.3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管道护理</a:t>
            </a: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: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鼻空肠管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8a5c8c"/>
              </a:solidFill>
              <a:latin typeface="Verdan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保持有效的负压引流，负压宜大，以能吸引出腹腔液体、引流管周围无渗出液为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如见坏死组织堵塞管道，应及时挤压维持通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如有血性液引出，应立即减小负压并通知医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</a:rPr>
              <a:t>密切观察冲洗液与引流液在量上的对比及引流液的量、色、性、味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D62A3-8EFB-4188-9F5C-DDC3645D8471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7AE1B-7334-4BA5-B6BA-F730DC0B9B3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" name="标题 1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5.4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管道护理</a:t>
            </a: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: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腹腔引流管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6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皮肤完整性受损的危险因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局部长期受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渗液浸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造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营养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8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11A7A-29D6-4EEE-BF51-6C198249331E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2CE3E-AAEE-4170-BD21-05B13815D6F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6.1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皮肤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加强会阴及肛周的清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涂紫草油、鞣酸、皮肤保护膜等进行皮肤保护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留置肛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局部长期受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使用气垫床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定时翻身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水胶体敷料保护受压部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2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293CA-73BB-4E3A-8CD7-039504AAA56F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3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A62D5-03B7-4DE4-AFA8-4D5D6CD5421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 action="ppaction://hlinksldjump"/>
              </a:rPr>
              <a:t>体格检查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视诊：营养情况、皮肤黏膜、腹部外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听诊：肠鸣音、血管杂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触诊：腹部紧张度、有无压痛及反跳痛及其发生部位与程度；肝脾、包块及其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叩诊：实音、鼓音、移动性浊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2FEF1-4041-4D66-AC03-2D3EDD27D14C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0FEE7-2C27-430D-9051-AC584D94413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6.2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皮肤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造瘘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造口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腹部渗液浸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维持腹腔引流管有效的负压吸引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及时更换浸湿的敷料及床单，清洁皮肤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使用皮肤保护膜等隔离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营养不良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F2FB3-482B-40D4-A71A-DCD2B6001FB1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78EC2-70C6-4A0E-99D2-684C85CEBA7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19" name="矩形 4" descr=""/>
          <p:cNvPicPr/>
          <p:nvPr/>
        </p:nvPicPr>
        <p:blipFill>
          <a:blip r:embed="rId1"/>
          <a:stretch/>
        </p:blipFill>
        <p:spPr>
          <a:xfrm>
            <a:off x="2371680" y="2762280"/>
            <a:ext cx="436392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4e0ec"/>
                </a:solidFill>
                <a:latin typeface="Verdana"/>
              </a:rPr>
              <a:t>消化系统的常见症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厌食、恶心呕吐、嗳气与反酸、咽下困难、胸骨或剑突下烧灼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胀、腹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泻与粪便性状、便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呕血、便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皮肤与巩膜黄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07469-B80E-4F9A-BEBE-DD0C0654F82A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8CD7F-BBFC-4EA2-8BF6-0F6D37C83C6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8-30T18:30:58Z</dcterms:modified>
  <cp:revision>8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